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EE1-3338-4638-9804-87B52BC7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162-6B55-44BB-8030-CF6D0BA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77D-B4B0-40DD-A69E-9437AB9B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AF0-2429-4686-9E2D-271BEB93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BFC3-50D0-4AF4-82A5-623E899C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5AC-05CA-4E79-AF9F-53B74B10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58A3-3143-48A3-A9E5-0778041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686E-B193-4C2A-A6E6-0924A9FA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BB18-E250-4900-B178-71B8A162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C4B8-D57E-48E2-8E4E-4922D6BD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FEB-4091-4BA4-9957-1F47F22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EFD-20CB-413D-A96C-316736C4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E759-6758-47B3-BD20-6E1AA67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139D-8B44-4A50-B00A-E36C53B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3F5-34F5-4ADB-9610-A2D3A85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7BB3-EBF4-4D7D-AAFE-9A3826FF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8250-03AF-411C-BC60-C1F0FFFC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1D9-16F5-47B5-AFE9-1C857AF7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F55-0DAD-401E-BFC1-7EA58E92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3C7-BA61-4FA2-8751-338E941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585-0A38-410D-B20E-0AAE9EFF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391-4324-4705-AD49-145ED79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521-165D-42B4-B172-7191ECC1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D7B-3077-436E-813F-835CFA5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9EB2-5086-470C-B8D6-FAA2B330D0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3A99-476E-4206-9A2C-C5AC7392DD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9440"/>
            <a:ext cx="640080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7</cp:lastModifiedBy>
  <dcterms:modified xsi:type="dcterms:W3CDTF">2012-06-19T11:03:37Z</dcterms:modified>
  <cp:revision>30</cp:revision>
  <dc:subject/>
  <dc:title>SALARIUL</dc:title>
</cp:coreProperties>
</file>